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BB6B-2FFA-476B-B1C8-EDFA5625B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6F97-A7D1-43CD-895F-5C9327F9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EE2E-B2F5-438A-B3D9-E2E26CB6E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D9DD-7340-4F5B-9F58-6796032FB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59E2-6480-45B2-96EF-99395F86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82F8-52FE-4F82-9E2D-54E1E171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EA05-F77A-49FF-9F46-E9CB730D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B8F5-ABF8-4F46-A24B-CC96804B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658D-38CB-4A32-8C01-4B1229BA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FA7A-D4D0-4097-B15F-934425E1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EFC2-0F36-4410-93FD-53FE76E0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0BC0-BF39-4031-8D4D-2D1B0258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0D98-A018-43EC-B9DA-81D01F7332D0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egnaposto piè di pa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tutor Anna Maria Staffel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La LIM nella progettazione didat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I fase del Piano per la diffusione delle Lavagne Interattive Multimedia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85840" y="428760"/>
            <a:ext cx="855504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Calibri"/>
              </a:rPr>
              <a:t>Scuola-laboratorio: Ambiente generativo di apprendime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468360" y="1052640"/>
            <a:ext cx="82803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 luogo in cui gli allievi possono lavorare insieme e aiutarsi a vicenda per imparare a usare una molteplicità di strumenti e risorse informative, nel comune perseguimento di obiettivi di apprendimento guidati da insegnanti-ricercatori-scienzia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mbienti cosí intesi sono connessi con lo sviluppo dell’intelligenza sociale (Goleman, 2006, Rizzolati e Sinigaglia, 2006). Inoltre considerano intrinsecamente le differenze individual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iù marcatamente lo studio sulle differenze individuali è segnato dalla ricerca sugli stili cognitivi e strategie di apprendimento. Rilevanti le ricerche di Mess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1984), Jonassen e Grabowski (1993) per i quali gli stili cognitivi sono caratteristiche globali che mettono in luce una tendenza individuale di funzionamento cognitivo (pensare, memorizzare, prendere decisioni), che riflettono regolarità ne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ocessazione dell’informazione e che si sviluppano attorno a orientamenti della personalità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5"/>
          <p:cNvSpPr/>
          <p:nvPr/>
        </p:nvSpPr>
        <p:spPr>
          <a:xfrm>
            <a:off x="468360" y="404640"/>
            <a:ext cx="820728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li stili di apprendimento sono modalità preferite da uno studente per ottenere concentrazione e apprendimento di informazioni difficili. La rilevanza è sul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ff"/>
                </a:solidFill>
                <a:latin typeface="Arial"/>
              </a:rPr>
              <a:t>interazioni con l’ambiente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cune bipolarità sono per esempio silenzio-suono, luce bassa-luce fort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ff"/>
                </a:solidFill>
                <a:latin typeface="Arial"/>
              </a:rPr>
              <a:t>con l’altro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: 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prendimento individuale-collaborativo, presenza di autorità-assenza di autorità, ripetitività-creatività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ff"/>
                </a:solidFill>
                <a:latin typeface="Arial"/>
              </a:rPr>
              <a:t>con il proprio corpo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ferenza tra l’uditivo-visivo-tattile-cinesico, movimento-fer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visuospaziale.gif"/>
          <p:cNvPicPr/>
          <p:nvPr/>
        </p:nvPicPr>
        <p:blipFill>
          <a:blip r:embed="rId1"/>
          <a:stretch/>
        </p:blipFill>
        <p:spPr>
          <a:xfrm>
            <a:off x="3995640" y="2997360"/>
            <a:ext cx="3686400" cy="2171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68360" y="5300640"/>
            <a:ext cx="820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gnifica creare l’opportunità di percepire-sperimentare-fare con tutti i sensi, di dire-confrontarsi-riflettere sull’esperienza propria e degli altri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(Dozza, 2006; Brown, 1997; Dunlop e Grabinger, 199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3716280"/>
            <a:ext cx="324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estire un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mbiente Generativo di Apprendimento (AG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La LI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468360" y="1989000"/>
            <a:ext cx="83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755640" y="1557360"/>
            <a:ext cx="7848720" cy="55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ricchisce lo scenario dell’AGA, divenendo essa stessa «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mbiente di apprendimen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rilevanza pedagogica più influente circa l’utilizzo della LIM è che essa contiene potenzialità intrinseche rispetto alle problematiche connesse alle differenze individuali: nel suo più evoluto uso, infatti,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uò agganciare e sollecitare contemporaneamente stili cognitivi differen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visivo, tattile, uditivo) attraverso l’uso e la manipolazione di immagini, la creazione di filmati o di file audio da associare a testi o dati, l’utilizzo del corpo in uno spazio non limitato dal ban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gni allievo può quindi essere sollecitato dall’insegnante che — progettando la lezione attraverso stimoli differenti e facendo partecipi gli allievi stessi all’azione — coinvolge intenzionalmente le differenze individuali di apprendimento nella comprensione dei contenu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684360" y="620640"/>
            <a:ext cx="799308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Questi aspetti permettono contemporaneamente di elevare nella classe le sog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i attenzione e di interazi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oltre la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uò fungere da elemento che caratterizza l’uso cooperativo e costruttivo della classe, attraverso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a possibilità data agli allievi di divenire essi stessi esper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 parti di contenuto da distribuire nel contesto. Ovvero,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ssi posso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re in gruppi per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laborare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risorse di apprendimento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 utilizzare come prodo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 approfondimento e di ricerca da affiancare ai contenuti e processi di quanto l’insegnante predispone per l’apprendimento nella clas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00000" y="5373720"/>
            <a:ext cx="763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Bibliografia: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Piergiuseppe Ellerani - Apprendere con-tatto. La LIM nuovo strumento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per comunicare, cooperare e generare apprendimenti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21:04:25Z</dcterms:created>
  <dc:creator>Lucia</dc:creator>
  <dc:description/>
  <dc:language>en-US</dc:language>
  <cp:lastModifiedBy>aa</cp:lastModifiedBy>
  <dcterms:modified xsi:type="dcterms:W3CDTF">2011-04-14T13:36:39Z</dcterms:modified>
  <cp:revision>5</cp:revision>
  <dc:subject/>
  <dc:title>La LIM nella progettazione didattica</dc:title>
</cp:coreProperties>
</file>