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1C4-A991-44E3-A076-10460FFA98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BDF3-D7D9-4EEA-AD46-51F7CCDC5A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AF7D-D24C-4A4A-8D1F-34E3EB8909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unti-Spunti\LIM.doc  -- Insegnare_con_la_LIM.mp3  --  Innova%20Scuola%20—%20Pillole%20formative.mht  --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uardar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il sito d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novascuol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s’è la lim per D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AE3B-FC7C-48CC-831A-781D0B2BD1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dattica per competenze.ppt    --   Cos’è la LIM.ppt  -- apprendere con-tatto.pdf  -   INSEGNARE: dall’ardesia alla LIM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M – Sito Innovascuola, cos’è la 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F9B-F447-42AB-8BFF-3C02520C2E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dattica per competenze.ppt    --   Cos’è la LIM.ppt  --  INSEGNARE: dall’ardesia alla LIM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M – Sito Innovascuola, cos’è la 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24A3-76DD-41AD-ACDF-4C0D336B0C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docente.wav    --   Appunti-Spunti\apprendimento.doc  --  balabolka\il%20gruppo.b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F0B-2386-4DF5-BF5C-1CBF339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085-8F6F-4A8A-89BD-B49C59A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85-033E-475E-BAE4-81120F6C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883-F788-4959-B8D5-3D8676B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BBB-9B86-47BB-B858-9AF84C81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E63-328C-4F0E-93C3-EC5B255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B08-85B8-4B7E-935F-5D7497F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51F6-D559-426F-85DA-D5329DAD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4497-20D7-4B6E-A609-CE7D48D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52B-07B4-45D1-B5C0-1B9AADE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D5E-C249-42D6-AF46-4980ED2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684-2D5C-4CB0-8478-71187295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4C04-B0B2-46D2-990A-8ACB2BC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DFCF-F6B9-4A56-8273-6839F17B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CEDC-5733-4FAA-88CC-486E912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809A-B899-4636-B828-F0B05A34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4693-77BB-4029-8601-2F2F1897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EB97-DD91-46EA-A461-4D466386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A010-41A4-42B3-938C-BF24716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F429-E859-4029-8F6A-3175C749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FFB9-6350-4DFE-BCEB-053977A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4705-D433-4325-AB5E-B4339873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1AB-7DCD-4B9F-9D2F-89F0021E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65D9-A23C-4AEF-B524-93EEB2CA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1A2C-C922-47FE-8F66-B41075B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C994-6B37-4FF0-87FA-16B8C62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3190-9AB4-4049-8A19-8474E5FB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74F1-5405-4E44-BF0D-55EFD98F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4228-B018-4BE2-95D5-0A161720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3D63-F8F3-4B90-AA72-C17117D2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89A4F-D45A-4562-BFFA-52C5DCD3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4CBF0-80B2-4BBC-A3AE-3DE185CE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F65E6-13A2-4DC5-B31B-3B48619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0E5-0433-41EE-A3C3-9C39F2F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1D362-93AC-4076-A7BA-73AB8889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478EB-82A3-467D-AD20-0F91540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5F9E0-8B96-44D6-B772-7D716927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EFFBF-2E63-4F73-84AC-1D48AFF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20936-FCCE-4062-B985-564DC58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0F2AF-D95A-41F1-A73D-CAD7E63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E8590-FFAA-4A9B-82E7-35E31A5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A4F22-5AF5-4C16-AEB5-53A6A98B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BD70A-87BE-4F0F-94CA-EE8D62B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C73-0A7B-4D61-8D91-7AEB41D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F1D-8169-4AE4-9D4C-06E4486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692-C222-4D15-B943-CCBA4E2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389-8E7E-445D-86C5-2C89508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616-8753-42F5-B7E3-DFD4A5A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CE85-7788-4A85-9E26-47AAFC3D77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906D-168D-452C-976D-5CEF54C3ED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f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382-2B9B-47CA-AE47-FAC31E668E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185-4BAC-41B5-89D3-86680FDE50F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6.xml"/><Relationship Id="rId6" Type="http://schemas.openxmlformats.org/officeDocument/2006/relationships/slide" Target="slide10.xml"/><Relationship Id="rId7" Type="http://schemas.openxmlformats.org/officeDocument/2006/relationships/slide" Target="slide2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2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hyperlink" Target="file:///Collegamenti%20allegati/Apprendere%20con%20tatto_Ellerani.pdf" TargetMode="Externa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6.xml"/><Relationship Id="rId6" Type="http://schemas.openxmlformats.org/officeDocument/2006/relationships/slide" Target="slide10.xml"/><Relationship Id="rId7" Type="http://schemas.openxmlformats.org/officeDocument/2006/relationships/slide" Target="slide2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6.xml"/><Relationship Id="rId7" Type="http://schemas.openxmlformats.org/officeDocument/2006/relationships/slide" Target="slide10.xml"/><Relationship Id="rId8" Type="http://schemas.openxmlformats.org/officeDocument/2006/relationships/slide" Target="slide2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llegamenti%20allegati/Appunti-Spunti/LIM.doc" TargetMode="External"/><Relationship Id="rId2" Type="http://schemas.openxmlformats.org/officeDocument/2006/relationships/hyperlink" Target="file:///Collegamenti%20allegati/Insegnare_con_la_LIM.mp3" TargetMode="External"/><Relationship Id="rId3" Type="http://schemas.openxmlformats.org/officeDocument/2006/relationships/hyperlink" Target="http://www.innovascuola.gov.it/pillole/UD01_LO09/home.htm?UD01_LO09" TargetMode="External"/><Relationship Id="rId4" Type="http://schemas.openxmlformats.org/officeDocument/2006/relationships/hyperlink" Target="file:///Collegamenti%20allegati/equivalente_testuale_9.htm" TargetMode="External"/><Relationship Id="rId5" Type="http://schemas.openxmlformats.org/officeDocument/2006/relationships/hyperlink" Target="http://www.donmilanicolombo.com/" TargetMode="External"/><Relationship Id="rId6" Type="http://schemas.openxmlformats.org/officeDocument/2006/relationships/hyperlink" Target="http://www.donmilanicolombo.com/" TargetMode="External"/><Relationship Id="rId7" Type="http://schemas.openxmlformats.org/officeDocument/2006/relationships/hyperlink" Target="http://www.donmilanicolombo.com/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6.xml"/><Relationship Id="rId7" Type="http://schemas.openxmlformats.org/officeDocument/2006/relationships/slide" Target="slide10.xml"/><Relationship Id="rId8" Type="http://schemas.openxmlformats.org/officeDocument/2006/relationships/slide" Target="slide2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slide" Target="slide2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2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ollegamenti%20allegati/Didattica%20per%20competenze.ppt" TargetMode="External"/><Relationship Id="rId2" Type="http://schemas.openxmlformats.org/officeDocument/2006/relationships/hyperlink" Target="file:///Collegamenti%20allegati/Cosa%20&#232;%20la%20LIM.ppt" TargetMode="External"/><Relationship Id="rId3" Type="http://schemas.openxmlformats.org/officeDocument/2006/relationships/hyperlink" Target="file:///Collegamenti%20allegati/Apprendere%20con%20tatto_Ellerani.pdf" TargetMode="Externa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23.xml"/><Relationship Id="rId7" Type="http://schemas.openxmlformats.org/officeDocument/2006/relationships/hyperlink" Target="file:///Collegamenti%20allegati/Insegnare%20con%20la%20LIM.%20Aspetti%20innovativi.ppt" TargetMode="External"/><Relationship Id="rId8" Type="http://schemas.openxmlformats.org/officeDocument/2006/relationships/hyperlink" Target="http://www.innovascuola.gov.it/opencms/opencms/lim/lim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6.xml"/><Relationship Id="rId6" Type="http://schemas.openxmlformats.org/officeDocument/2006/relationships/slide" Target="slide10.xml"/><Relationship Id="rId7" Type="http://schemas.openxmlformats.org/officeDocument/2006/relationships/slide" Target="slide2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libreriauniversitaria.it/libri-autore_toschi+luca-luca_toschi.htm" TargetMode="External"/><Relationship Id="rId2" Type="http://schemas.openxmlformats.org/officeDocument/2006/relationships/hyperlink" Target="http://www.comunicazionegenerativa.org/2011/bibliografia" TargetMode="External"/><Relationship Id="rId3" Type="http://schemas.openxmlformats.org/officeDocument/2006/relationships/hyperlink" Target="http://www.apogeonline.com/libri/9788850329731/scheda" TargetMode="External"/><Relationship Id="rId4" Type="http://schemas.openxmlformats.org/officeDocument/2006/relationships/hyperlink" Target="http://www.giuntistore.it/customer/product.php?productid=10602&amp;cat=431" TargetMode="External"/><Relationship Id="rId5" Type="http://schemas.openxmlformats.org/officeDocument/2006/relationships/hyperlink" Target="http://www.tafter.it/2011/01/04/le-novita-editoriali-di-dicembre-2010/" TargetMode="External"/><Relationship Id="rId6" Type="http://schemas.openxmlformats.org/officeDocument/2006/relationships/hyperlink" Target="http://www.scuola-digitale.it/lim/ilprogetto/finalita/" TargetMode="External"/><Relationship Id="rId7" Type="http://schemas.openxmlformats.org/officeDocument/2006/relationships/hyperlink" Target="http://www.innovascuola.gov.it/opencms/opencms/lim/menu_sinistro/01_cosa_e/index.html?colore=FF6501&amp;folderSelected=/lim/menu_sinistro/01_cosa_e/" TargetMode="External"/><Relationship Id="rId8" Type="http://schemas.openxmlformats.org/officeDocument/2006/relationships/hyperlink" Target="http://www.innovascuola.gov.it/opencms/opencms/lim/lim.html" TargetMode="External"/><Relationship Id="rId9" Type="http://schemas.openxmlformats.org/officeDocument/2006/relationships/hyperlink" Target="https://sites.google.com/site/limascuola/" TargetMode="External"/><Relationship Id="rId10" Type="http://schemas.openxmlformats.org/officeDocument/2006/relationships/hyperlink" Target="http://www.labtd.it/partecipa/" TargetMode="External"/><Relationship Id="rId11" Type="http://schemas.openxmlformats.org/officeDocument/2006/relationships/hyperlink" Target="http://www.csl.unifi.it/perfezionamento/index.html" TargetMode="External"/><Relationship Id="rId12" Type="http://schemas.openxmlformats.org/officeDocument/2006/relationships/slide" Target="slide6.xml"/><Relationship Id="rId13" Type="http://schemas.openxmlformats.org/officeDocument/2006/relationships/slide" Target="slide10.xml"/><Relationship Id="rId14" Type="http://schemas.openxmlformats.org/officeDocument/2006/relationships/slide" Target="slide23.xml"/><Relationship Id="rId15" Type="http://schemas.openxmlformats.org/officeDocument/2006/relationships/slide" Target="slide3.xml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hyperlink" Target="file:///Collegamenti%20allegati/il%20docente.wav" TargetMode="External"/><Relationship Id="rId5" Type="http://schemas.openxmlformats.org/officeDocument/2006/relationships/hyperlink" Target="file:///Collegamenti%20allegati/Appunti-Spunti/apprendimento.doc" TargetMode="External"/><Relationship Id="rId6" Type="http://schemas.openxmlformats.org/officeDocument/2006/relationships/hyperlink" Target="file:///Collegamenti%20allegati/balabolka/il%20gruppo.bxt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2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2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af517"/>
                </a:solidFill>
                <a:latin typeface="Tahoma"/>
              </a:rPr>
              <a:t>Corso Tic sulle nuove tecnologie: </a:t>
            </a:r>
            <a:br>
              <a:rPr sz="4400"/>
            </a:br>
            <a:r>
              <a:rPr b="0" i="1" lang="it-IT" sz="4400" spc="-1" strike="noStrike">
                <a:solidFill>
                  <a:srgbClr val="faf517"/>
                </a:solidFill>
                <a:latin typeface="Tahoma"/>
              </a:rPr>
              <a:t>LIM per creare  nuove strategie didattich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16000" y="5013000"/>
            <a:ext cx="6912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af517"/>
                </a:solidFill>
                <a:latin typeface="Tahoma"/>
              </a:rPr>
              <a:t>A cura di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faf517"/>
                </a:solidFill>
                <a:latin typeface="Tahoma"/>
              </a:rPr>
              <a:t>Antonella Agueli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af517"/>
                </a:solidFill>
                <a:latin typeface="Tahoma"/>
              </a:rPr>
              <a:t>13-14 febbraio 20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af517"/>
                </a:solidFill>
                <a:latin typeface="Tahoma"/>
              </a:rPr>
              <a:t>Laboratorio Tecnologie Didattiche</a:t>
            </a:r>
            <a:r>
              <a:rPr b="0" lang="it-IT" sz="1200" spc="-1" strike="noStrike">
                <a:solidFill>
                  <a:srgbClr val="faf517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af517"/>
                </a:solidFill>
                <a:latin typeface="Tahoma"/>
              </a:rPr>
              <a:t>SMS Don Milani - Colo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A40-7D13-4A4C-AB89-A1105B28F00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Arial"/>
              </a:rPr>
              <a:t>Formazione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Linguag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Sapere, Informare, Conoscere le diverse metodologie informati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Comunic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Saper Fare, Formare, Saper trasmettere ed Addestrare alle diversità attraverso la 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Saper Essere, Riflettere, Sapersi Sintonizzare ai diversi linguaggi, canali comunicativi tecnolog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i="1" lang="it-IT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it-IT" sz="3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Comunicazione che diventa</a:t>
            </a:r>
            <a:r>
              <a:rPr b="0" lang="it-IT" sz="3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 Rifless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71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72" name="_s7172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_s7173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_s7174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_s7175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_s7176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_s7177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14">
            <a:hlinkClick r:id="rId8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6D4-2651-4E49-A3BE-3874C5F2314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Linguaggi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Sap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prendere atto delle innovazioni tecnolog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Inform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diffondere le nuove metodologie e prodigarsi al loro sviluppo cre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Conosc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i diversi software delle LIM, averne cognizione mentale che le classifichi come strumenti, veicola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8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86" name="_s819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_s819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_s819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_s819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_s820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_s820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AutoShape 14">
            <a:hlinkClick r:id="rId7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A9F-8119-4233-85A6-EE055791AE1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Linguaggi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rendere atto delle innovazioni tecnolog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nalizzare le diversità con le tecnologie sino ad ora utilizzate (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enza pregiudizi!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9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00" name="_s922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_s922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_s922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_s922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_s922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_s922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49E-9947-417C-9DF4-0D1CCBBC82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Linguaggi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Informa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Diffondere le nuove metodologie e prodigarsi al loro sviluppo cre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Lavorare in gruppo per sperimentare i nuovi modelli in una linea di condivi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1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14" name="_s1024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_s1024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_s1024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_s1024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_s1024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_s1024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8629-9AA9-416F-A62A-765A7779D46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Linguaggi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Conosce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vere cognizione mentale dei diversi software delle LIM e saperli classificare come strumenti, veicolanti, e non come panacea della tecn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2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28" name="_s1126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_s1126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_s1127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_s1127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_s1127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_s1127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989-6619-4948-9D3C-64A6865BDB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Comunicazione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Saper F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saper progettare una didattica nuova, per 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apprendere con t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Form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: sape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e-duc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le abilità dei ragazzi ed addestrare alle divers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Saper trasmett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, rispettare tutte le diversità attraverso la LIM e valutare gli sviluppi individ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41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42" name="_s12292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_s12293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_s12294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_s12295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_s12296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_s12297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4">
            <a:hlinkClick r:id="rId8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0CB6-062D-475F-953D-CB2B333DC7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omunicaz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 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aper progettare una didattica nu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5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56" name="_s1331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_s1331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_s1331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_s1331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_s1332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_s1332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3DA-EDAB-4993-B914-B488D7E8ACC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omunicaz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For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ape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e-duc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le abilità dei ragazzi ed addestrare alle divers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6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70" name="_s1434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_s1434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_s1434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_s1434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_s1434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_s1434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3C2-211E-44BE-8F05-BC451E2BDCB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omunicaz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Saper trasmetter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ispettare tutte le diversità attraverso la LIM e valutare gli sviluppi indivd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8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84" name="_s1536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_s1536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_s1536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_s1536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_s1536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_s1536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659A-8E5C-4DC6-8986-C7222C62CE0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Comunicazione </a:t>
            </a:r>
            <a:r>
              <a:rPr b="0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Riflessione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Saper essere riflessivo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apire le diverse modalità dei tempi e degli spazi in relazione alla tec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Sapersi sintonizzare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i diversi lingua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Saper valutare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le diversità dei canali comunicativi tecnologici ed ripristinarne la comunicazione: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dare il giusto valore alle performance, distinguendone le compon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39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398" name="_s1638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_s1638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_s1639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_s1639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_s1639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_s1639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AutoShape 14">
            <a:hlinkClick r:id="rId9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c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Bradley Hand ITC"/>
              </a:rPr>
              <a:t>Conoscere le nuove TIC </a:t>
            </a:r>
            <a:br>
              <a:rPr sz="4800"/>
            </a:br>
            <a:r>
              <a:rPr b="1" i="1" lang="it-IT" sz="4800" spc="-1" strike="noStrike">
                <a:solidFill>
                  <a:srgbClr val="000000"/>
                </a:solidFill>
                <a:latin typeface="Bradley Hand ITC"/>
              </a:rPr>
              <a:t>e saper utilizzare la </a:t>
            </a:r>
            <a:r>
              <a:rPr b="0" lang="it-IT" sz="4800" spc="-1" strike="noStrike" u="sng">
                <a:solidFill>
                  <a:srgbClr val="ffcc00"/>
                </a:solidFill>
                <a:uFillTx/>
                <a:latin typeface="Bradley Hand ITC"/>
                <a:hlinkClick r:id="rId1"/>
              </a:rPr>
              <a:t>LIM _x000b_</a:t>
            </a:r>
            <a:r>
              <a:rPr b="1" i="1" lang="it-IT" sz="4800" spc="-1" strike="noStrike">
                <a:solidFill>
                  <a:srgbClr val="000000"/>
                </a:solidFill>
                <a:latin typeface="Bradley Hand ITC"/>
              </a:rPr>
              <a:t>per creare nuovi percorsi educativi, apprenditivi, atti a </a:t>
            </a:r>
            <a:r>
              <a:rPr b="1" i="1" lang="it-IT" sz="4800" spc="-1" strike="noStrike" u="sng">
                <a:solidFill>
                  <a:srgbClr val="000000"/>
                </a:solidFill>
                <a:uFillTx/>
                <a:latin typeface="Bradley Hand ITC"/>
              </a:rPr>
              <a:t>tutti i tipi di abilità</a:t>
            </a:r>
            <a:r>
              <a:rPr b="1" i="1" lang="it-IT" sz="4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it-IT" sz="48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(</a:t>
            </a:r>
            <a:r>
              <a:rPr b="0" lang="it-IT" sz="3600" spc="-1" strike="noStrike" u="sng">
                <a:solidFill>
                  <a:srgbClr val="ffcc00"/>
                </a:solidFill>
                <a:uFillTx/>
                <a:latin typeface="Bradley Hand ITC"/>
                <a:hlinkClick r:id="rId2"/>
              </a:rPr>
              <a:t>audio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, </a:t>
            </a:r>
            <a:r>
              <a:rPr b="0" lang="it-IT" sz="3600" spc="-1" strike="noStrike" u="sng">
                <a:solidFill>
                  <a:srgbClr val="ffcc00"/>
                </a:solidFill>
                <a:uFillTx/>
                <a:latin typeface="Bradley Hand ITC"/>
                <a:hlinkClick r:id="rId3"/>
              </a:rPr>
              <a:t>video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, </a:t>
            </a:r>
            <a:r>
              <a:rPr b="0" lang="it-IT" sz="3600" spc="-1" strike="noStrike" u="sng">
                <a:solidFill>
                  <a:srgbClr val="ffcc00"/>
                </a:solidFill>
                <a:uFillTx/>
                <a:latin typeface="Bradley Hand ITC"/>
                <a:hlinkClick r:id="rId4"/>
              </a:rPr>
              <a:t>grafiche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) </a:t>
            </a:r>
            <a:br>
              <a:rPr sz="3600"/>
            </a:b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it-IT" sz="4800" spc="-1" strike="noStrike" u="sng">
                <a:solidFill>
                  <a:srgbClr val="000000"/>
                </a:solidFill>
                <a:uFillTx/>
                <a:latin typeface="Bradley Hand ITC"/>
              </a:rPr>
              <a:t>degli studenti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481640" y="3244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481640" y="3244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481640" y="3244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labtd"/>
          <p:cNvPicPr/>
          <p:nvPr/>
        </p:nvPicPr>
        <p:blipFill>
          <a:blip r:embed="rId8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4140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A cura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Antonella Ague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518-B956-42CD-A625-3B772DC5294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ifless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 riflett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apire le diverse modalità dei tempi e degli spazi in relazione alla tec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11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12" name="_s17412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_s17413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_s17414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_s17415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_s17416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_s17417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BFBB-0C82-4667-A5A8-CA44FDC7F3A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ifless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si sintonizzar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Distinguere i diversi lingua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2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26" name="_s1843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_s1843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_s1843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_s1843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_s1844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_s1844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F29F-C23A-4E5B-B721-93C2AA97CF8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iflessione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 valuta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Le diversità dei canali comunicativi tecnologici ed ripristinarne la comunicazione: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dare il giusto valore alle performance, distinguendone le compon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3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40" name="_s1946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_s1946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_s1946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_s1946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_s1946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_s1946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3BA2-DDFA-4448-AFFF-5B36ABBF1F1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Forme del </a:t>
            </a:r>
            <a:r>
              <a:rPr b="1" i="1" lang="it-IT" sz="4800" spc="-1" strike="noStrike">
                <a:solidFill>
                  <a:srgbClr val="000000"/>
                </a:solidFill>
                <a:latin typeface="Arial"/>
              </a:rPr>
              <a:t>SAPERE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SAP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come informazione, essere a conoscenza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SAPER FARE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ome formazione, essere abili,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erformanc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, capacità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 Solving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SAPER ESSERE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ome  consapevolezza, essere competent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experti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(coscienza del discente e, nella valutazione dello stesso, meta-conoscenza del doc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5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54" name="_s2048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_s2048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_s2048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048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_s2048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_s2048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AutoShape 14">
            <a:hlinkClick r:id="rId9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B495-6D14-4207-AC01-3E2E0ED226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Tecnologic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Essere informa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ui nuovi strumenti tecnologic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cosa cercare? Quale scegli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Sapere dove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eperirne le informazioni in ret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come e quand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L’euristica della ricerca funziona semp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Cercate ovunqu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6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68" name="_s2150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_s2150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_s2151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_s2151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_s2151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_s2151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AutoShape 14">
            <a:hlinkClick r:id="rId7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0018-D1E1-4E69-B1C8-9CC36D90B85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Essere informati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ggiornati sui nuovi strumenti tecnologic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What? Which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81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82" name="_s22532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_s22533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_s22534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_s22535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_s22536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_s22537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2499-3B17-4FDF-B96D-B2E5D12E74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e dov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Reperirne le informazioni in ret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Wher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49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496" name="_s2355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_s2355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_s2355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_s2355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_s2356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_s2356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C2E-27D6-420F-9ACE-5F7ECEEC36D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FA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Tecnologic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Essere formati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, addestrati, abil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ui nuovi strumenti tecnologic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What? Which?)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Sapere come risolvere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le criticità tecniche e dov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reperirne ulteriori conoscenze in ret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Where?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apacità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0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10" name="_s2458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_s2458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_s2458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_s2458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_s2458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_s2458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AutoShape 14">
            <a:hlinkClick r:id="rId6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DE3-B9F2-4796-B40E-D2D674603D4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Essere formati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ddestrati, abil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ui nuovi strumenti tecnologic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quali performance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2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24" name="_s2560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_s2560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_s2560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_s2560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_s2560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_s2560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79A-4058-49E1-82B4-636BB89795F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e come risolvere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Le criticità tecniche e dov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reperirne ulteriori conoscenze in ret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quale percorso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capacità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3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38" name="_s2662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_s2662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_s2663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_s2663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_s2663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_s2663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165-4469-4645-8188-8D90281984B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nuove tecnologie devono accompagnarsi a nuove strategie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dattiche per competenz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ove la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M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 pone al centro di un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mbiente Educativo di 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Diagram 14"/>
          <p:cNvGrpSpPr/>
          <p:nvPr/>
        </p:nvGrpSpPr>
        <p:grpSpPr>
          <a:xfrm>
            <a:off x="1620000" y="2007720"/>
            <a:ext cx="5969520" cy="4317840"/>
            <a:chOff x="1620000" y="2007720"/>
            <a:chExt cx="5969520" cy="4317840"/>
          </a:xfrm>
        </p:grpSpPr>
        <p:sp>
          <p:nvSpPr>
            <p:cNvPr id="184" name="_s1028"/>
            <p:cNvSpPr/>
            <p:nvPr/>
          </p:nvSpPr>
          <p:spPr>
            <a:xfrm>
              <a:off x="2770560" y="2329200"/>
              <a:ext cx="3888360" cy="2799000"/>
            </a:xfrm>
            <a:custGeom>
              <a:avLst/>
              <a:gdLst>
                <a:gd name="textAreaLeft" fmla="*/ 0 w 3888360"/>
                <a:gd name="textAreaRight" fmla="*/ 3888720 w 3888360"/>
                <a:gd name="textAreaTop" fmla="*/ 0 h 2799000"/>
                <a:gd name="textAreaBottom" fmla="*/ 2799360 h 27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62" y="19070"/>
                  </a:moveTo>
                  <a:arcTo wR="-8542" hR="-8542" stAng="6269600" swAng="-2934140"/>
                  <a:lnTo>
                    <a:pt x="4697" y="1890"/>
                  </a:lnTo>
                  <a:arcTo wR="10800" hR="10800" stAng="-7464540" swAng="2934140"/>
                  <a:lnTo>
                    <a:pt x="14179" y="-2270"/>
                  </a:lnTo>
                  <a:lnTo>
                    <a:pt x="16927" y="2395"/>
                  </a:lnTo>
                  <a:lnTo>
                    <a:pt x="12262" y="5144"/>
                  </a:lnTo>
                  <a:close/>
                </a:path>
              </a:pathLst>
            </a:custGeom>
            <a:solidFill>
              <a:srgbClr val="3333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029"/>
            <p:cNvSpPr/>
            <p:nvPr/>
          </p:nvSpPr>
          <p:spPr>
            <a:xfrm rot="7200000">
              <a:off x="3816360" y="2707920"/>
              <a:ext cx="3194280" cy="2979360"/>
            </a:xfrm>
            <a:custGeom>
              <a:avLst/>
              <a:gdLst>
                <a:gd name="textAreaLeft" fmla="*/ 0 w 3194280"/>
                <a:gd name="textAreaRight" fmla="*/ 3194640 w 3194280"/>
                <a:gd name="textAreaTop" fmla="*/ 0 h 2979360"/>
                <a:gd name="textAreaBottom" fmla="*/ 2979720 h 29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532" y="18860"/>
                  </a:moveTo>
                  <a:arcTo wR="-8697" hR="-8697" stAng="6724232" swAng="-2890365"/>
                  <a:lnTo>
                    <a:pt x="6048" y="1101"/>
                  </a:lnTo>
                  <a:arcTo wR="10800" hR="10800" stAng="-6966133" swAng="2890365"/>
                  <a:lnTo>
                    <a:pt x="15873" y="-1711"/>
                  </a:lnTo>
                  <a:lnTo>
                    <a:pt x="17940" y="3175"/>
                  </a:lnTo>
                  <a:lnTo>
                    <a:pt x="13053" y="5242"/>
                  </a:lnTo>
                  <a:close/>
                </a:path>
              </a:pathLst>
            </a:custGeom>
            <a:solidFill>
              <a:srgbClr val="3333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30"/>
            <p:cNvSpPr/>
            <p:nvPr/>
          </p:nvSpPr>
          <p:spPr>
            <a:xfrm rot="14400000">
              <a:off x="2264040" y="2639880"/>
              <a:ext cx="3182400" cy="2982960"/>
            </a:xfrm>
            <a:custGeom>
              <a:avLst/>
              <a:gdLst>
                <a:gd name="textAreaLeft" fmla="*/ 0 w 3182400"/>
                <a:gd name="textAreaRight" fmla="*/ 3182760 w 318240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062" y="19241"/>
                  </a:moveTo>
                  <a:arcTo wR="-8618" hR="-8618" stAng="6098075" swAng="-3098075"/>
                  <a:lnTo>
                    <a:pt x="3858" y="2527"/>
                  </a:lnTo>
                  <a:arcTo wR="10800" hR="10800" stAng="-7800000" swAng="3098075"/>
                  <a:lnTo>
                    <a:pt x="13523" y="-2423"/>
                  </a:lnTo>
                  <a:lnTo>
                    <a:pt x="16471" y="2055"/>
                  </a:lnTo>
                  <a:lnTo>
                    <a:pt x="11993" y="5004"/>
                  </a:lnTo>
                  <a:close/>
                </a:path>
              </a:pathLst>
            </a:custGeom>
            <a:solidFill>
              <a:srgbClr val="3333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31"/>
            <p:cNvSpPr/>
            <p:nvPr/>
          </p:nvSpPr>
          <p:spPr>
            <a:xfrm>
              <a:off x="6300360" y="2707920"/>
              <a:ext cx="1289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Analisi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e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a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32"/>
            <p:cNvSpPr/>
            <p:nvPr/>
          </p:nvSpPr>
          <p:spPr>
            <a:xfrm>
              <a:off x="3996000" y="5163120"/>
              <a:ext cx="128916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Formazion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guaggio 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unic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1620000" y="2491920"/>
              <a:ext cx="128880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For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Sap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1"/>
          <p:cNvSpPr/>
          <p:nvPr/>
        </p:nvSpPr>
        <p:spPr>
          <a:xfrm>
            <a:off x="3276720" y="3141720"/>
            <a:ext cx="27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9999"/>
                </a:solidFill>
                <a:uFillTx/>
                <a:latin typeface="Arial Narrow"/>
                <a:hlinkClick r:id="rId7"/>
              </a:rPr>
              <a:t>INSEGNARE</a:t>
            </a:r>
            <a:r>
              <a:rPr b="0" lang="it-IT" sz="2200" spc="-1" strike="noStrike">
                <a:solidFill>
                  <a:srgbClr val="000000"/>
                </a:solidFill>
                <a:latin typeface="Arial Narrow"/>
              </a:rPr>
              <a:t> CON LA</a:t>
            </a:r>
            <a:r>
              <a:rPr b="1" lang="it-IT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4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319E-09FC-455E-B777-887683C1BC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ESSE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Tecnolog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Essere consapevol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delle potenzialità degli strumenti tecn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Sapere scegliere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dove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quan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utilizzarli  le informazioni in ret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(Wher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Expertise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sull’incidenza apprenditiva che tali tecnologie avranno nel rapporto Insegnamento-Apprendimento dei diversi alunni, con capacità di valutazione a più variabili (coscienza del discente e meta-conoscenza del doc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51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52" name="_s27652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_s27653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_s27654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_s27655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_s27656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_s27657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4">
            <a:hlinkClick r:id="rId8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1BC6-5986-42F7-BFA5-4CDD74B0B6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SAPER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Essere consapevoli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Padronanza delle potenzialità degli strumenti tecnolog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Dimestichezza sulle conseguenze dei diversi rapporti con la tecn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6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66" name="_s2867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_s2867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_s2867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_s2867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_s2868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_s2868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93D6-2476-4BE5-BD8E-BAB473110F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APER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Scegliere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Sapere dove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quan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 utilizzare le multimedialità e quali informazioni in rete selezionar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(come ottimizzare le risorse? In che contest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7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80" name="_s2970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_s2970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_s2970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_s2970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_s2970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_s2970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D74B-332B-444B-B463-E95DAB50523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Expertise</a:t>
            </a:r>
            <a:r>
              <a:rPr b="0" i="1" lang="it-IT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Meta-cognizione sull’incidenza apprenditiva che tali tecnologie avranno nel rapporto Insegnamento-Apprendimento dei diversi alunni, con capacità di valutazione a più variabili (coscienza del discente e meta-conoscenza del doc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59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594" name="_s3072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_s3072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_s3072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_s3072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_s3072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_s3072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67A-0567-4FAD-AA94-CEEA43C4A9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  <a:ea typeface="宋体"/>
              </a:rPr>
              <a:t>Bibliografia e sit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ca Tos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La comunicazione generativ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Milano, Apogeo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Arial"/>
                <a:ea typeface="宋体"/>
              </a:rPr>
              <a:t>Faggioli M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(a cura di),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Tecnologie per la didatt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Milano, Apogeo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Arial"/>
                <a:ea typeface="宋体"/>
              </a:rPr>
              <a:t>Biondi G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it-IT" sz="20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(a cura di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LIM. A scuola con la lavagna interattiva multimed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Firenze, Giunti Editore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Arial"/>
                <a:ea typeface="宋体"/>
              </a:rPr>
              <a:t>Anichini A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it-IT" sz="20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Il testo digitale. Leggere e scrivere nell'epoca dei nuovi med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宋体"/>
              </a:rPr>
              <a:t>, Milano, Apogeo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uola-digitale.it/lim/ilprogetto/finalit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nnovascuola.gov.it/opencms/opencms/lim/menu_sinistro/01_cosa_e/index.html?colore=FF6501&amp;folderSelected=/lim/menu_sinistro/01_cosa_e/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innovascuola.gov.it/opencms/opencms/lim/lim.ht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s://sites.google.com/site/limascuola/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labtd.it/partecipa/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sl.unifi.it/perfezionamento/index.ht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60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608" name="_s3174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_s3174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_s3175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_s3175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2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_s3175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3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_s3175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4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AutoShape 14">
            <a:hlinkClick r:id="rId15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F7F-D719-40D7-B591-96C61C10A61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16000" y="342864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af517"/>
                </a:solidFill>
                <a:latin typeface="Tahoma"/>
              </a:rPr>
              <a:t>Grazie </a:t>
            </a:r>
            <a:br>
              <a:rPr sz="3200"/>
            </a:br>
            <a:r>
              <a:rPr b="0" i="1" lang="it-IT" sz="3200" spc="-1" strike="noStrike">
                <a:solidFill>
                  <a:srgbClr val="faf517"/>
                </a:solidFill>
                <a:latin typeface="Tahoma"/>
              </a:rPr>
              <a:t>della cortese attenzione …</a:t>
            </a:r>
            <a:br>
              <a:rPr sz="3200"/>
            </a:br>
            <a:br>
              <a:rPr sz="3200"/>
            </a:br>
            <a:r>
              <a:rPr b="0" i="1" lang="it-IT" sz="3200" spc="-1" strike="noStrike">
                <a:solidFill>
                  <a:srgbClr val="faf517"/>
                </a:solidFill>
                <a:latin typeface="Tahoma"/>
              </a:rPr>
              <a:t>… a pr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9" name="Diagram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20" name="AutoShape 24">
            <a:hlinkClick r:id="rId1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EBF7-7294-4B0D-8D1C-48CF93F208F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Diagram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Ma cosa è la L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4" descr=""/>
          <p:cNvPicPr/>
          <p:nvPr/>
        </p:nvPicPr>
        <p:blipFill>
          <a:blip r:embed="rId1"/>
          <a:stretch/>
        </p:blipFill>
        <p:spPr>
          <a:xfrm>
            <a:off x="250920" y="1444680"/>
            <a:ext cx="8642160" cy="522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252108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3130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>
            <a:hlinkClick r:id="rId4" action="ppaction://hlinksldjump"/>
          </p:cNvPr>
          <p:cNvSpPr/>
          <p:nvPr/>
        </p:nvSpPr>
        <p:spPr>
          <a:xfrm>
            <a:off x="2627280" y="404640"/>
            <a:ext cx="289080" cy="28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7C1-7CD4-4F4C-8A41-43A571B2454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Ma cosa cambia </a:t>
            </a:r>
            <a:br>
              <a:rPr sz="4400"/>
            </a:b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la L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"/>
          <a:stretch/>
        </p:blipFill>
        <p:spPr>
          <a:xfrm>
            <a:off x="2916360" y="215424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1871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6">
            <a:hlinkClick r:id="rId3" action="ppaction://hlinksldjump"/>
          </p:cNvPr>
          <p:cNvSpPr/>
          <p:nvPr/>
        </p:nvSpPr>
        <p:spPr>
          <a:xfrm>
            <a:off x="2627280" y="404640"/>
            <a:ext cx="289080" cy="28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 rot="511200">
            <a:off x="246240" y="2538000"/>
            <a:ext cx="2525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c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4494240"/>
            <a:ext cx="88930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Lim può essere uno straordinario strumento di lavoro per tutti gli alunni con bisogni educativi speciali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infatti la Lim si sta rivelando strumento efficace nella didattica tradizionale, sempre più persone ritengono che la Lim sia mezzo di grandissimo potenziale per i casi di sostegno. Inoltre su internet non è così tanto il materiale in merito (mentre è in continua crescita quello dedicato alla Lim 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 rot="20843400">
            <a:off x="5633640" y="1913040"/>
            <a:ext cx="3384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’ambiente  d’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6534000" y="3686040"/>
            <a:ext cx="25275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rup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87200" y="3840120"/>
            <a:ext cx="3097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utti gli alu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FF43-6311-4E2E-BFEA-04B3F60FC52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48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del contesto clas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iferimenti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i programmi Ministeri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ccoglienz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delle singole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pers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ima del valore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Campo Socio-psicologic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della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15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16" name="_s3076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_s3077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_s3078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_s3079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_s3080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_s3081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24">
            <a:hlinkClick r:id="rId7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030-7F4C-4C06-A54A-3DF2764E6D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iferimenti ai programmi MI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e linee ministeriali, convertite in mappe concettuali, saranno la traccia dell’azione educativa del docente che, dopo aver scavato nelle conoscenze di ogni singolo, pianificherà scenografie di lezioni, atte a creare mappe mentali negli studenti, canovacci delle loro performance fu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29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30" name="_s4100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_s4101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_s4102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_s4103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_s4104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_s4105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A8FA-C0CF-448C-8F21-B9CEA5632A7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coglienza della 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docente attraverso compiti minimi deve aver chiara le competenze di base dei singoli, in modo da attribuire in modo differenziato i futuri ruoli e funzioni nella classe, al fine di sviluppare le nuove competenze del gruppo. Le difficoltà debbono essere sempre eque: mete troppo semplici o troppo difficili destabilizzano e falsano l’autost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43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44" name="_s5124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_s5125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_s5126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_s5127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_s5128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_s5129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ura di Antonella AGU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36B2-0868-4EE8-B15B-9EC1FEC22AB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tima del valore 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Campo Socio-psicologic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“CLAS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docente osservatore organizza lavori di gruppo senza forzare le naturali attitudini dei ragazzi, secondo regole sociali che limiteranno gli abusi e incentiveranno alla partecipazione collettiva. La scenografia della lezione dovrà contenere momenti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pieni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vuo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8100720" y="346680"/>
            <a:ext cx="861840" cy="1046160"/>
            <a:chOff x="8100720" y="346680"/>
            <a:chExt cx="861840" cy="1046160"/>
          </a:xfrm>
        </p:grpSpPr>
        <p:grpSp>
          <p:nvGrpSpPr>
            <p:cNvPr id="257" name="Diagram 5"/>
            <p:cNvGrpSpPr/>
            <p:nvPr/>
          </p:nvGrpSpPr>
          <p:grpSpPr>
            <a:xfrm>
              <a:off x="8100720" y="346680"/>
              <a:ext cx="861840" cy="1046160"/>
              <a:chOff x="8100720" y="346680"/>
              <a:chExt cx="861840" cy="1046160"/>
            </a:xfrm>
          </p:grpSpPr>
          <p:sp>
            <p:nvSpPr>
              <p:cNvPr id="258" name="_s6148"/>
              <p:cNvSpPr/>
              <p:nvPr/>
            </p:nvSpPr>
            <p:spPr>
              <a:xfrm>
                <a:off x="8316720" y="346680"/>
                <a:ext cx="430200" cy="743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_s6149"/>
              <p:cNvSpPr/>
              <p:nvPr/>
            </p:nvSpPr>
            <p:spPr>
              <a:xfrm rot="7200000">
                <a:off x="821844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_s6150"/>
              <p:cNvSpPr/>
              <p:nvPr/>
            </p:nvSpPr>
            <p:spPr>
              <a:xfrm rot="14400000">
                <a:off x="8100720" y="679320"/>
                <a:ext cx="743760" cy="430200"/>
              </a:xfrm>
              <a:custGeom>
                <a:avLst/>
                <a:gdLst>
                  <a:gd name="textAreaLeft" fmla="*/ 0 w 743760"/>
                  <a:gd name="textAreaRight" fmla="*/ 744120 w 743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550" y="17891"/>
                    </a:moveTo>
                    <a:arcTo wR="-7200" hR="-7200" stAng="6000000" swAng="-3000000"/>
                    <a:lnTo>
                      <a:pt x="3858" y="2527"/>
                    </a:lnTo>
                    <a:arcTo wR="10800" hR="10800" stAng="-7800000" swAng="3000000"/>
                    <a:lnTo>
                      <a:pt x="13144" y="-2495"/>
                    </a:lnTo>
                    <a:lnTo>
                      <a:pt x="16794" y="2718"/>
                    </a:lnTo>
                    <a:lnTo>
                      <a:pt x="11581" y="636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_s6151"/>
              <p:cNvSpPr/>
              <p:nvPr/>
            </p:nvSpPr>
            <p:spPr>
              <a:xfrm>
                <a:off x="8649720" y="482400"/>
                <a:ext cx="17244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Anali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_s6152"/>
              <p:cNvSpPr/>
              <p:nvPr/>
            </p:nvSpPr>
            <p:spPr>
              <a:xfrm>
                <a:off x="8445960" y="109440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Formazi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_s6153"/>
              <p:cNvSpPr/>
              <p:nvPr/>
            </p:nvSpPr>
            <p:spPr>
              <a:xfrm>
                <a:off x="8241120" y="482760"/>
                <a:ext cx="172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Saper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13"/>
            <p:cNvSpPr/>
            <p:nvPr/>
          </p:nvSpPr>
          <p:spPr>
            <a:xfrm>
              <a:off x="8413560" y="779040"/>
              <a:ext cx="31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14">
            <a:hlinkClick r:id="rId4" action="ppaction://hlinksldjump"/>
          </p:cNvPr>
          <p:cNvSpPr/>
          <p:nvPr/>
        </p:nvSpPr>
        <p:spPr>
          <a:xfrm>
            <a:off x="324000" y="69228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6:56:22Z</dcterms:created>
  <dc:creator>liceodoria</dc:creator>
  <dc:description/>
  <dc:language>en-US</dc:language>
  <cp:lastModifiedBy>Tecnica</cp:lastModifiedBy>
  <dcterms:modified xsi:type="dcterms:W3CDTF">2012-02-14T10:25:06Z</dcterms:modified>
  <cp:revision>28</cp:revision>
  <dc:subject/>
  <dc:title>Fonti di energia rinnovabili</dc:title>
</cp:coreProperties>
</file>